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43813"/>
        <c:axId val="45873588"/>
      </c:barChart>
      <c:catAx>
        <c:axId val="82543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3588"/>
        <c:crosses val="autoZero"/>
        <c:auto val="1"/>
        <c:lblAlgn val="ctr"/>
        <c:lblOffset val="100"/>
        <c:noMultiLvlLbl val="0"/>
      </c:catAx>
      <c:valAx>
        <c:axId val="45873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43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D5B-DF2A-482A-A47B-25AC2765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C0D-694A-4A96-A337-5C70D20F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543-94F3-44DF-A7B0-2C1993A4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43F4-E580-4406-B7CF-9B4CEFFD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923-3425-45A9-8B13-9F065A27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120-D8B0-4CCC-AC8F-4FC353DF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62B-9B80-457E-9A3E-07D8184A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DC21-D6BA-4136-822F-CB655BA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89FD-4762-44F8-A5A6-5C3A83C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3AE-D15B-4156-AF3E-9B9FC589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36E-59D7-417C-81FE-E8F5CA9C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24BE-7861-4035-80D6-E59A155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9A050-2E95-4706-93CB-EDF2DA93D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