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47743"/>
        <c:axId val="78180293"/>
      </c:barChart>
      <c:catAx>
        <c:axId val="95477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80293"/>
        <c:crosses val="autoZero"/>
        <c:auto val="1"/>
        <c:lblAlgn val="ctr"/>
        <c:lblOffset val="100"/>
        <c:noMultiLvlLbl val="0"/>
      </c:catAx>
      <c:valAx>
        <c:axId val="78180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77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C89-B916-43E8-9A76-6D745F37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0BBD-0B9E-459A-BA12-3E26F2C7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6D6-F6BA-4236-87CD-DB9E12EC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131F-5691-4C81-9415-CD56550D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33D-187E-4CB3-BEDE-523901CC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1F50-135A-49AF-88A5-D1C04524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C87-297A-480B-82EF-73A2A18F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B126-5798-49D5-9DED-8CB3EC5F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D84A-6950-4156-A9DD-D0D12806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980-E16E-4AF5-9FD8-0E5077F4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7F63-E1A6-4BCA-A6E6-E15525A0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E8D-C5CC-4D44-9063-43570DDE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10116-F9DF-4914-9E8B-295CAB4300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